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402-A8BF-4A78-82CF-DF1E0464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EF5-9BEC-49B7-BA00-1860A48C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564-2D17-4F3D-9F27-F9942BA0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0A7-4706-43E5-B948-C0D2CE76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768-CD80-4BC2-AC14-24B61ED2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7AE-6AD8-4170-A86B-5DF944DD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068-C18E-4628-89C0-2457FCC0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E07-DC81-4EEF-A096-BD42A4DD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670E-0CF1-45D3-86E0-3F4D5F43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965-51E4-4017-9418-A6DF29F4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6ED-28AF-4FD3-8C96-580EC767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E8F-ACAB-4A3D-90AE-F4A9A688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8AAC-BED5-44AA-9811-7D10AAAB6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ahoma"/>
              </a:rPr>
              <a:t>Equidécomposabilité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ric BAIN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2 févri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ahoma"/>
              </a:rPr>
              <a:t>Règle, compas, papier, ciseaux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n peut découper un polygone simple A en un nombre fini de polygones simples, et recoller les morceaux pour en obtenir un autre B.</a:t>
            </a:r>
            <a:br>
              <a:rPr sz="3200"/>
            </a:b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A et B sont équidécompos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lation d’équiva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ahoma"/>
              </a:rPr>
              <a:t>Th. de Wallace-Bolyai-Gerwien (1833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 équid. Q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P et Q ont même 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monstration avec Cabri 2 Plu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ahoma"/>
              </a:rPr>
              <a:t>Et la 3D dans tout ça 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nterrogations de Gauss (184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3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problème de Hilbert (19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olution de Dehn (19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 équid. Q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(P) = D(Q) et mêm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ciproque Sydler (19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(P) = D(Q) et même volume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P équid.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ahoma"/>
              </a:rPr>
              <a:t>Invariants de Deh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 une fo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dditive f(a+b)=f(a)+f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ulle sur Q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(P) =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.f(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 longueur de l’arêt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: angle diédral de l’arêt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nvariant par découpage/col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ahoma"/>
              </a:rPr>
              <a:t>Invariants des solides d’Archimèd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rticle de Conway, Radin, et Sadun (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ube équ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cosidodécaèdre tronqu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cosaèdre + Dodécaèdre tronqu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décaèdre + Icosaèdre tronqu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cosaèdre + Dodécaèdre + Icosidodécaè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cosidodécaèdre + Icosidodécaèdre rhomb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cosaèdre tronqué + Dodécaèdre tronqué + Icosidodécaèdre rhomb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ahoma"/>
              </a:rPr>
              <a:t>Quelques explorations avec Cabri 3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ic Bainville</cp:lastModifiedBy>
  <dcterms:modified xsi:type="dcterms:W3CDTF">2008-02-11T22:15:08Z</dcterms:modified>
  <cp:revision>37</cp:revision>
  <dc:subject/>
  <dc:title>PowerPoint Presentation</dc:title>
</cp:coreProperties>
</file>